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3EFE-44A5-41E2-8E7D-85CB5A090C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6CF0-F74B-4375-A1DE-381964BD4FA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5047-AD1B-48ED-9D41-17E93C1ACCB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1B0D-CCD1-4F96-ADCD-31367DC790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F245-94DF-4560-8B1A-C79A1B909D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BDDA-308E-406D-90BE-DD641152E4C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D655-594B-474D-B69D-D06BF1ED423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948F-9EA4-44FE-B9E4-C40688459EB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A688-EA2E-42D9-AEFE-C63A3F5EE1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A8D-5FBC-48CF-8191-2E33029E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4CA-DB10-4825-B12F-A3F71CB9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BAD4-E0C1-4787-BCCB-310252D5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BD5-E1A7-4167-80B0-8E9D358F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FA86-37BC-485F-8B3C-4D737992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A466-638B-4971-A748-6A4BB6BE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06D2-B993-4B5F-8B40-BBF42FCB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49A0-03D2-4A7E-8F41-1C1FE248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4B3B-21E1-466D-841A-2CD042AE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6261-E1D9-450F-AD53-0DF524F8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3781-A849-4F45-AACC-A0F5C4B1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F90-4959-4345-A727-1ED9B0E2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9892-7A18-4669-9B93-01902889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7048-AA01-4AA4-9DDA-1262C958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FA45-AEA1-4406-BDC8-D0A3E869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072E-ADE8-488C-9F41-CFFD3059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F9ED-3CC7-429F-A184-4A18AAB9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E64A-3622-41E7-A504-9FDB767C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AB990-9CF2-456F-97E6-79BEEB93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74123-907D-4DE1-AB7D-3B0AAEE6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2A4C1-CFD2-4B1C-BDD8-1958B306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83AC0-E816-4946-9F64-75891811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5DC-D533-451D-ABE5-3099C6A0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192B-DF21-465C-9E6D-C4D151DB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B529E-56FA-4BA2-8A58-F68D76B0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C5F59-A90C-4499-9018-F6AA147A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CC231-BFFF-4C4B-AE9F-8897588A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0BB95-535D-4060-89F1-F1E19A62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F3506-0424-4017-84CF-24DBDCFE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A4DA9-F1B0-41F3-94E6-6C651D7D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8354B-7825-453E-8223-9B22F236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04DFA-FE25-4E66-A758-73AA3FB5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DB1FA-4EFD-47DF-ABE1-B2707968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94B-7D84-4BED-942E-C00EED12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0F888-AF8F-415D-80A5-24B84581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A434E-8F92-4910-BC52-2BEBA178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E442E-66E3-4CFD-84BD-28356F00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FCF8-9C3E-4F4E-952E-3F20782D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B8D21-F367-4C33-A724-8B1E39C6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D2BD4-9B7B-4D1B-980A-A63134D8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ADA56-33CD-4709-9464-B976B1AB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8106D-FA5D-40F4-B313-44C88C66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84189-2638-4A8D-996C-829A5E16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C71DA-2E64-4416-8AC7-3522FA6D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8A1-C67C-46DF-A41E-28F016D8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3DC38-396F-4D3F-98A1-CA9C29D7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3D003-4A2D-4772-B49A-E3C3F821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3FAC4-B40E-4A2B-BA67-18678768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DABA7-E0C5-4EE4-8187-11FC456E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FDCAD-D8F9-4741-B86A-F9DE6565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33396-6DB4-4DFB-BA78-F952C59E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B5EB5-205E-41E7-926B-CD7F15D9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8A4D7-78B9-4E1A-AE5B-F0B299B5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1C5D7-C0D6-4EBF-9A72-3F34B312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B9C5D-25F0-410E-8070-9C168EF4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D91-F802-4154-AB3D-FFA43CD5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F7F55-97F5-45BD-82C1-F10B454B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2E8-2ED7-4D71-B7E6-FE762B37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6FC-3520-4577-876A-5C71A9F9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508-F49A-487F-AD86-EF3885BD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6077-481C-4950-957A-88D768609C9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177E-54E7-498A-90E4-D78B284680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5AAD-A1AB-4F9D-B2E0-A2701F07B9C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455D-2703-4CD5-9EBE-3E4A64105F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1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Прямоугольный треугольник 13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4843-D35A-45F2-B566-EFC364B75D9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ECC7-8A64-4B68-AEB2-07B1129E17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AB58-D9CD-4B05-AE17-67F8C9AEA2B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8B63-B447-439F-8754-966A2DE7D9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олилиния 15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Прямоугольный треугольник 16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179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182" name="Нашивка 19"/>
          <p:cNvSpPr/>
          <p:nvPr/>
        </p:nvSpPr>
        <p:spPr>
          <a:xfrm>
            <a:off x="866304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Нашивка 20"/>
          <p:cNvSpPr/>
          <p:nvPr/>
        </p:nvSpPr>
        <p:spPr>
          <a:xfrm>
            <a:off x="847728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D3B7-E060-4E9F-A7AA-CD2AB37E0DBC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10D7-9520-410F-9ED7-2D34123541D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049" descr=""/>
          <p:cNvPicPr/>
          <p:nvPr/>
        </p:nvPicPr>
        <p:blipFill>
          <a:blip r:embed="rId2"/>
          <a:stretch/>
        </p:blipFill>
        <p:spPr>
          <a:xfrm>
            <a:off x="299880" y="1746360"/>
            <a:ext cx="8804520" cy="18428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36760" y="4266720"/>
            <a:ext cx="66549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</a:rPr>
              <a:t>Новоминское сельское поселени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3D01-9519-48C1-A221-AD61F5EE520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A650-A1BD-423B-AC50-55944D00F1F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15A-CD4B-49A8-A4C2-742FB55E402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5331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лен на основе требований Бюджетного Кодекса Российской  Федерации, решения Совета Новоминского сельского поселения Каневского района «О бюджетном процессе в Новоминском сельском поселении Каневского района», иных законодательных,  нормативных правовых актов Российской Федерации, Краснодарского края и Совета Новоминского сельского поселения Каневского район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D295-7A4C-49DD-B190-7D20BB7FCF3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8568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о данным Управления Федерального казначейства по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раснодарскому краю за 2017 год администрировало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доходы местного бюджета на общую сумм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 50781,58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 рублей, а именно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Налоговые и неналоговые доход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40152,87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, в том числе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доходы физических лиц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2250,22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Единый сельскохозяйствен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5094,92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имущество физических лиц –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2307,47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Земель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5727,46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Денежные взыскания и штрафы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0,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Доходы от уплаты акцизов – 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4762,8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Безвозмездные поступления –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0628,71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, в том числе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Прочие субсидии бюджетам сельских поселений - на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9989,61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осуществление первичного воинского учета на территориях, где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осуществляют военные комиссариаты - на сумму 557,70 тыс. 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выполнение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ередаваемых полномочий - на сумму 7,6 тыс.рублей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ежбюджетные трансферт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, передаваемые бюджетам муниципальных образований на осуществление части полномочий порешению вопросов местного значения в соответствии с заключенными соглашениями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- на сумму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73,8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0BFA-694A-4E09-BEB3-EAEF1ADA28A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Rectangle 6" descr=""/>
          <p:cNvPicPr/>
          <p:nvPr/>
        </p:nvPicPr>
        <p:blipFill>
          <a:blip r:embed="rId2"/>
          <a:stretch/>
        </p:blipFill>
        <p:spPr>
          <a:xfrm>
            <a:off x="203040" y="171360"/>
            <a:ext cx="84772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09480" y="514440"/>
          <a:ext cx="8229600" cy="5692680"/>
        </p:xfrm>
        <a:graphic>
          <a:graphicData uri="http://schemas.openxmlformats.org/drawingml/2006/table">
            <a:tbl>
              <a:tblPr/>
              <a:tblGrid>
                <a:gridCol w="6305760"/>
                <a:gridCol w="1633320"/>
                <a:gridCol w="29052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781,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 (продукции)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мым на территории Российской Фед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2,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и на прибыль, до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0,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4,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7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86,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0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28,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9C3B-A2CF-4543-A08A-8B5CA4B6CD6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028880"/>
            <a:ext cx="8686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актическое исполнение и общие кассовы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юджетных ассигнований за 2017 год по  муниципальному образованию Новоминское сельское поселение Каневско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йон составили 62592,29 тыс.рубл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ыли осуществлены по следующим разделам бюджетной классификации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100 «Общегосударственные вопросы»-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7560,00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200 «Национальная оборона»- 557,7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300 «Национальная безопасность и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авоохранительная деятельность»- 11,27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400 «Национальная экономика»- 9043,65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500 «ЖКХ»- 18471,60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700 «Образование»- 120,78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800 «Культура или кинематография»-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3939,47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00 «Социальная политика»- 252,44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100 «Физическая культура и спорт»- 2635,38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4201-4347-4360-B9A8-D8F8DEF91F3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Rectangle 6" descr=""/>
          <p:cNvPicPr/>
          <p:nvPr/>
        </p:nvPicPr>
        <p:blipFill>
          <a:blip r:embed="rId2"/>
          <a:stretch/>
        </p:blipFill>
        <p:spPr>
          <a:xfrm>
            <a:off x="220680" y="452520"/>
            <a:ext cx="8477280" cy="6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507960" y="457200"/>
          <a:ext cx="8229600" cy="4943520"/>
        </p:xfrm>
        <a:graphic>
          <a:graphicData uri="http://schemas.openxmlformats.org/drawingml/2006/table">
            <a:tbl>
              <a:tblPr/>
              <a:tblGrid>
                <a:gridCol w="4291200"/>
                <a:gridCol w="1476360"/>
                <a:gridCol w="1477800"/>
                <a:gridCol w="984240"/>
              </a:tblGrid>
              <a:tr h="91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, утвержденны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-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о поселен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60,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592,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31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6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,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,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7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43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61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71,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6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39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,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5,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3B52-0AD1-42BA-B678-A6E3EF58890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456840"/>
            <a:ext cx="822960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80800" indent="-19656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2017 году были приняты следующие целевые программы: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. Муниципальная программ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деятельности органов местного самоуправления Новоминского сельского посел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1425,7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ддержка и развитие Кубанского к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азачест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 на территории Новоминского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льского поселения Каневского район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на 2016-2018 годы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25,0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Пожарная безопасность в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овоминском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льском поселении Каневского района»-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2,00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сельского хозяйства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43,8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и содержание дорожного хозяйства Новоминского сельского посел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8954,3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П Краснодарского края «Развитие сети автомобильных дорог Краснодарского края в 2017 году» - 1329,5 тыс.рублей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лучшение качества обслуживания и содержания дорог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93,1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Новоминского сельского поселения Каневского района в сфере строительства, архитектуры, землеустройства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11,3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газоснабж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139,7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0.Муниципальная программа «Увеличение уставного фонда МУП Новоминского сельского поселения Каневского района «Благоустройство» для его финансового оздоровления» - 4000,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1.Муниципальная программа «Газификация ул.Советской в ст.Новоминской» - 375,9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2.Муниципальная программа «Осуществление мероприятий по улучшению водоснабжения» - 332,3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3.Муниципальная программа «Развитие благоустройства в Новоминском сельском поселении Каневского района» - 11011,6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4.Муниципальная программа «Содействие в обеспечении платежей за электроэнергию ресурсоснабжающей организации с целью бесперебойного снабжения водой жителей Новоминского сельского поселения» - 1701,5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5.Муниципальная программа «Развитие молодежной политики в Новоминском сельском поселении» - 128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6.Муниципальная программа «Развитие культуры и кинематографии в Новоминском сельском поселении Каневского района» - 20186,1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7.Муниципальная программа «Развитие библиотечной системы в Новоминском сельском поселении Каневского района»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8.Муниципальная программа «Празднование Дня Победы в Новоминском сельском поселении в 2017 году» - 15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9.Муниципальная программа «Издание книги «Мыза ценой не постоим» - 13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0.Муниципальная программа «Фонд социальной поддержки населения» - 11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1.Муниципальная программа «Развитие физической культуры и спорта» - 2511,5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2.Муниципальная программа «Развитие велосипедного спорта в Новоминском сельском поселении»- 6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3.Муниципальная программа «Популяризация спортивных единоборств в Новоминском сельском поселении» - 11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4.Муниципальная программа «Популяризация футбола в Новоминском сельском поселении» - 60,00 тыс.рублей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AAB5-C03A-45FA-8B91-0ABEA743216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70AD-A157-4156-A53A-C63E6847C3E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456840"/>
            <a:ext cx="822960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F2CE-E72E-42A7-933F-B96EB9E0E1E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logovik</dc:creator>
  <dc:description/>
  <dc:language>en-US</dc:language>
  <cp:lastModifiedBy>ГЫУК</cp:lastModifiedBy>
  <dcterms:modified xsi:type="dcterms:W3CDTF">2019-10-18T05:57:0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