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1426-68AF-4C4C-A336-EAA87C90C7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859B-7365-4D83-A812-5953857E397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6C7F-BE8D-4D3D-BC5F-8D90B978653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60BC-A627-4E01-97DE-7A21979BD68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52B4-63A6-464C-83E2-5A235EAD554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E34D-9C6F-48EF-A180-3DB25A404E8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3320-389C-409B-A1D0-B2ACDDAC9AE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39A9-168C-4274-945B-C29FB617827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BA98-1E1C-4F64-A80B-6C1F2D265BD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D247-FA69-4708-9A39-CBF55A71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9951-3523-4CD0-B1FF-F531E355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7B49-B0B6-4BDF-B8B1-3A4B9025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47BE-6F64-47EC-B8EC-EAFBD446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3409-2FF6-4BE4-8D8E-F1697ABB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117F-1C45-4D97-B5E0-FB385C65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D184-0F2E-4D3D-A69F-021B5C70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B10F-B82E-427C-BE4F-8FBBE549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A8F2-709C-48E3-8FEF-94BB0EFB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9524-DEB5-43A0-9F36-57A76FFC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AC70-8205-4E61-BBDC-D83C5A6F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EA8-BFB4-4BFD-8F67-B26C36C3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4A50-DD17-44C5-8911-03E9423A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1391-0532-4E64-897B-9DCA3C60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928A-4679-4D7F-8762-3F0C0A59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39A0-92D0-4889-8996-749DFEDD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97D5-5387-4A26-A623-3BEABF6A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68AF5-32FC-457A-A38D-AED3D815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8A50B-902B-44DB-A63C-DEA4003B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BC98E-272B-4F55-A8D2-1EEE0EC9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34484-ED67-4FB6-AE2C-DA0DD34A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9718F-D82D-44BD-9D58-A333D5B4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0F88-A5F8-42C1-8E27-3029EADD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29E3F-B281-42CD-87CC-AD5A0D57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1D0E4-4317-4966-BB0C-F0AE6DCA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5D6FF-3A46-4EEF-BC99-7CB512D2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7D418-43B2-47AB-A474-96A569A9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C8E86-B679-46A2-865F-697254E1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DC94D-D672-4181-A3AC-7083F985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C29EA-7AEB-418A-B8D6-98C60F1E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05585-33A6-4BB4-BB79-5BEEB1DF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ED5DD-9ADA-497F-8D59-2AA02100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57D0A-C6B4-4DA3-9D7D-1CD4533C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15B7-2B20-4647-8714-D399B004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BD696-DF7D-46EE-A97B-3EADD875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98E84-7F0E-4726-949A-2AB599D0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7A7F1-937C-408F-85CF-D54B7142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73036-581D-4F9A-8289-4F2A9ABD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2B96A-AB4A-4554-BBA2-936F6579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8C394-E721-4995-BCD6-996371E7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342FF-07F8-4CB3-B3FC-41B81E6A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AB701-2124-4C2E-A321-BD86EEAF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219C0-BF1C-4E28-9741-125A4CCE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D672A-0364-4AD1-B51D-EA9E509C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AA22-6F14-40BF-B35E-E2F5394A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19562-57AF-4AAF-BB1C-62333790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9B3A6-F178-4556-BA58-20BEB6F8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68635-3597-4196-95F4-4EC90E5E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0EA00-72D9-4939-843E-FD5BA7D3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F7033-B766-4E5E-BD00-9EA998F4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55886-C5FA-43FD-A9BC-812DAA70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5A73A-6192-4709-BE93-C4D4D06A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2321A-DB80-4EA4-AE4D-53BAD070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0C0E3-1B0A-4CD2-8037-8B0CD3AB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9BF9B-FC79-4395-8FFB-D0AA4409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1AEC-C787-4408-B304-6A7B1973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3D726-3577-4609-BC59-AEFD7107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4397-ACE9-4689-B983-28B4EF0C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BDFF-4DCB-4D62-9A14-6F49164A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EBF2-3E62-420F-9D0A-C276C863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7640" y="5788080"/>
            <a:ext cx="3422520" cy="1087560"/>
            <a:chOff x="-17640" y="5788080"/>
            <a:chExt cx="3422520" cy="108756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22520" cy="10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6480" y="6422040"/>
              <a:ext cx="17017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EC9F-19CF-4783-AD04-C708E1380DDB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647C-0882-49BD-9A2C-463D788BFD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AD32-E558-41AB-82F2-697FDCB5E42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6034-EE21-46A9-85F4-0ED42CAABD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лилиния 11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Прямоугольный треугольник 13"/>
          <p:cNvGrpSpPr/>
          <p:nvPr/>
        </p:nvGrpSpPr>
        <p:grpSpPr>
          <a:xfrm>
            <a:off x="-17640" y="5788080"/>
            <a:ext cx="3422520" cy="1087560"/>
            <a:chOff x="-17640" y="5788080"/>
            <a:chExt cx="3422520" cy="1087560"/>
          </a:xfrm>
        </p:grpSpPr>
        <p:pic>
          <p:nvPicPr>
            <p:cNvPr id="9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22520" cy="10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76480" y="6422040"/>
              <a:ext cx="17017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065C-336A-4BEC-824D-67ECE9F2E53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19B4-D0E7-45B8-A411-5F6B5FD51E6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D2EB-A519-422D-AFE6-EB24DA8737E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237F-5700-4DEF-A95B-8E24D37D080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олилиния 15"/>
          <p:cNvSpPr/>
          <p:nvPr/>
        </p:nvSpPr>
        <p:spPr>
          <a:xfrm>
            <a:off x="484200" y="5938920"/>
            <a:ext cx="3692520" cy="933480"/>
          </a:xfrm>
          <a:custGeom>
            <a:avLst/>
            <a:gdLst>
              <a:gd name="textAreaLeft" fmla="*/ 0 w 3692520"/>
              <a:gd name="textAreaRight" fmla="*/ 3692880 w 36925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Прямоугольный треугольник 16"/>
          <p:cNvGrpSpPr/>
          <p:nvPr/>
        </p:nvGrpSpPr>
        <p:grpSpPr>
          <a:xfrm>
            <a:off x="-17640" y="5788080"/>
            <a:ext cx="3422520" cy="1087560"/>
            <a:chOff x="-17640" y="5788080"/>
            <a:chExt cx="3422520" cy="1087560"/>
          </a:xfrm>
        </p:grpSpPr>
        <p:pic>
          <p:nvPicPr>
            <p:cNvPr id="179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7640" y="5788080"/>
              <a:ext cx="3422520" cy="10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76480" y="6422040"/>
              <a:ext cx="17017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1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7640" y="5780160"/>
            <a:ext cx="3422880" cy="1100160"/>
          </a:xfrm>
          <a:prstGeom prst="rect">
            <a:avLst/>
          </a:prstGeom>
          <a:ln w="0">
            <a:noFill/>
          </a:ln>
        </p:spPr>
      </p:pic>
      <p:sp>
        <p:nvSpPr>
          <p:cNvPr id="182" name="Нашивка 19"/>
          <p:cNvSpPr/>
          <p:nvPr/>
        </p:nvSpPr>
        <p:spPr>
          <a:xfrm>
            <a:off x="8663040" y="4989600"/>
            <a:ext cx="183960" cy="228600"/>
          </a:xfrm>
          <a:custGeom>
            <a:avLst/>
            <a:gdLst>
              <a:gd name="textAreaLeft" fmla="*/ 0 w 183960"/>
              <a:gd name="textAreaRight" fmla="*/ 184320 w 183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Нашивка 20"/>
          <p:cNvSpPr/>
          <p:nvPr/>
        </p:nvSpPr>
        <p:spPr>
          <a:xfrm>
            <a:off x="8477280" y="4989600"/>
            <a:ext cx="183960" cy="228600"/>
          </a:xfrm>
          <a:custGeom>
            <a:avLst/>
            <a:gdLst>
              <a:gd name="textAreaLeft" fmla="*/ 0 w 183960"/>
              <a:gd name="textAreaRight" fmla="*/ 184320 w 183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726240" y="6408720"/>
            <a:ext cx="1920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9BDE-38EF-4B53-B02A-B33F52DDA53D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1C56-4210-4C28-A5BA-55330FF0561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049" descr=""/>
          <p:cNvPicPr/>
          <p:nvPr/>
        </p:nvPicPr>
        <p:blipFill>
          <a:blip r:embed="rId2"/>
          <a:stretch/>
        </p:blipFill>
        <p:spPr>
          <a:xfrm>
            <a:off x="299880" y="1746360"/>
            <a:ext cx="8804520" cy="18428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36760" y="4266720"/>
            <a:ext cx="665496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</a:rPr>
              <a:t>Новоминское сельское поселение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5A86-03A8-4DD4-98E2-E90E46F58D3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2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BCD3-C6EF-48BD-94CD-FC5A3D5E325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2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AB8A-2747-4C96-BA15-B1BC136AF05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5331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готовлен на основе требований Бюджетного Кодекса Российской  Федерации, решения Совета Новоминского сельского поселения Каневского района «О бюджетном процессе в Новоминском сельском поселении Каневского района», иных законодательных,  нормативных правовых актов Российской Федерации, Краснодарского края и Совета Новоминского сельского поселения Каневского район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6903-F970-41F5-9835-8D8FEBF4BF3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8568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По данным Управления Федерального казначейства по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Краснодарскому краю за 2017 год администрировало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доходы местного бюджета на общую сумм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 50781,58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тыс. рублей, а именно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Налоговые и неналоговые доходы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40152,87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, в том числе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Налог на доходы физических лиц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2250,22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Единый сельскохозяйственный налог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5094,92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Налог на имущество физических лиц –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2307,47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Земельный налог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5727,46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Денежные взыскания и штрафы- на 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0,0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Доходы от уплаты акцизов – на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4762,80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Безвозмездные поступления –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10628,71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 рублей, в том числе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Прочие субсидии бюджетам сельских поселений - на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сумм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9989,61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Субвенции бюджетам поселений на осуществление первичного воинского учета на территориях, где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осуществляют военные комиссариаты - на сумму 557,70 тыс. рублей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 Субвенции бюджетам поселений на выполнение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передаваемых полномочий - на сумму 7,6 тыс.рублей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ежбюджетные трансферты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, передаваемые бюджетам муниципальных образований на осуществление части полномочий порешению вопросов местного значения в соответствии с заключенными соглашениями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- на сумму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73,8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тыс.рублей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7AB5-F34A-4B56-9A0F-51682580FF5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Rectangle 6" descr=""/>
          <p:cNvPicPr/>
          <p:nvPr/>
        </p:nvPicPr>
        <p:blipFill>
          <a:blip r:embed="rId2"/>
          <a:stretch/>
        </p:blipFill>
        <p:spPr>
          <a:xfrm>
            <a:off x="203040" y="171360"/>
            <a:ext cx="84772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609480" y="514440"/>
          <a:ext cx="8229600" cy="5692680"/>
        </p:xfrm>
        <a:graphic>
          <a:graphicData uri="http://schemas.openxmlformats.org/drawingml/2006/table">
            <a:tbl>
              <a:tblPr/>
              <a:tblGrid>
                <a:gridCol w="6305760"/>
                <a:gridCol w="1633320"/>
                <a:gridCol w="29052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о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2017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, 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781,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зы по подакцизным товарам (продукции)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мым на территории Российской Федер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2,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и на прибыль, дох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0,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4,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7,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 с организац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86,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 с физических ли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0,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28,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5BEB-7855-4DED-B610-8CC8EB0761D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028880"/>
            <a:ext cx="86868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актическое исполнение и общие кассовые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бюджетных ассигнований за 2017 год по  муниципальному образованию Новоминское сельское поселение Каневско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йон составили 62592,29 тыс.рублей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были осуществлены по следующим разделам бюджетной классификации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100 «Общегосударственные вопросы»-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7560,00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200 «Национальная оборона»- 557,7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300 «Национальная безопасность и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авоохранительная деятельность»- 11,27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400 «Национальная экономика»- 9043,65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500 «ЖКХ»- 18471,60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700 «Образование»- 120,78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0800 «Культура или кинематография»-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3939,47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000 «Социальная политика»- 252,44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100 «Физическая культура и спорт»- 2635,38 тыс.рублей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EF2E-F37F-4492-A677-AC79054A789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Rectangle 6" descr=""/>
          <p:cNvPicPr/>
          <p:nvPr/>
        </p:nvPicPr>
        <p:blipFill>
          <a:blip r:embed="rId2"/>
          <a:stretch/>
        </p:blipFill>
        <p:spPr>
          <a:xfrm>
            <a:off x="220680" y="452520"/>
            <a:ext cx="8477280" cy="64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507960" y="457200"/>
          <a:ext cx="8229600" cy="4943520"/>
        </p:xfrm>
        <a:graphic>
          <a:graphicData uri="http://schemas.openxmlformats.org/drawingml/2006/table">
            <a:tbl>
              <a:tblPr/>
              <a:tblGrid>
                <a:gridCol w="4291200"/>
                <a:gridCol w="1476360"/>
                <a:gridCol w="1477800"/>
                <a:gridCol w="984240"/>
              </a:tblGrid>
              <a:tr h="91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, утвержденны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ое испол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-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по поселен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760,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592,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31,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6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7,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7,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76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43,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61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71,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,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6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39,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6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2,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35,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C3CE-9B59-4E94-9545-3A0AD36ECED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456840"/>
            <a:ext cx="822960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80800" indent="-19656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2017 году были приняты следующие целевые программы: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1. Муниципальная программ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деятельности органов местного самоуправления Новоминского сельского поселения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1425,7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оддержка и развитие Кубанского к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азачеств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а на территории Новоминского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ельского поселения Каневского район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на 2016-2018 годы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25,0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Пожарная безопасность в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Новоминском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ельском поселении Каневского района»-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2,00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сельского хозяйства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43,8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и содержание дорожного хозяйства Новоминского сельского поселения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- 8954,3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П Краснодарского края «Развитие сети автомобильных дорог Краснодарского края в 2017 году» - 1329,5 тыс.рублей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Улучшение качества обслуживания и содержания дорог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93,1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Новоминского сельского поселения Каневского района в сфере строительства, архитектуры, землеустройства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11,3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. Муниципальная программа «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витие газоснабжения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»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139,70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ыс. 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0.Муниципальная программа «Увеличение уставного фонда МУП Новоминского сельского поселения Каневского района «Благоустройство» для его финансового оздоровления» - 4000,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1.Муниципальная программа «Газификация ул.Советской в ст.Новоминской» - 375,9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2.Муниципальная программа «Осуществление мероприятий по улучшению водоснабжения» - 332,3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3.Муниципальная программа «Развитие благоустройства в Новоминском сельском поселении Каневского района» - 11011,6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4.Муниципальная программа «Содействие в обеспечении платежей за электроэнергию ресурсоснабжающей организации с целью бесперебойного снабжения водой жителей Новоминского сельского поселения» - 1701,5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5.Муниципальная программа «Развитие молодежной политики в Новоминском сельском поселении» - 128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6.Муниципальная программа «Развитие культуры и кинематографии в Новоминском сельском поселении Каневского района» - 20186,1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7.Муниципальная программа «Развитие библиотечной системы в Новоминском сельском поселении Каневского района»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8.Муниципальная программа «Празднование Дня Победы в Новоминском сельском поселении в 2017 году» - 15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9.Муниципальная программа «Издание книги «Мыза ценой не постоим» - 13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0.Муниципальная программа «Фонд социальной поддержки населения» - 11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1.Муниципальная программа «Развитие физической культуры и спорта» - 2511,5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2.Муниципальная программа «Развитие велосипедного спорта в Новоминском сельском поселении»- 60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3.Муниципальная программа «Популяризация спортивных единоборств в Новоминском сельском поселении» - 11,00 тыс.рублей;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80800" indent="-1965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4.Муниципальная программа «Популяризация футбола в Новоминском сельском поселении» - 60,00 тыс.рублей.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ECB9-0D1A-407F-9F9A-1890C1B55A6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2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25E4-5BA2-48F2-B3FD-2AF90BAE4B9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456840"/>
            <a:ext cx="8229600" cy="58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Номер слайда 4"/>
          <p:cNvSpPr/>
          <p:nvPr/>
        </p:nvSpPr>
        <p:spPr>
          <a:xfrm>
            <a:off x="8647200" y="6408720"/>
            <a:ext cx="36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F812-319F-4848-9F5A-9AB61809624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logovik</dc:creator>
  <dc:description/>
  <dc:language>en-US</dc:language>
  <cp:lastModifiedBy>ГЫУК</cp:lastModifiedBy>
  <dcterms:modified xsi:type="dcterms:W3CDTF">2019-10-18T05:57:0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