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8DA1-BCED-400D-A315-B0041238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A5B9-6D24-4D0E-9EB7-28E65372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75B-63DE-459B-A6E2-8665986E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D1CC-1ED6-4DBA-8A5F-10783EED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4FD6-3E94-4478-AD53-4B09B10E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B2FF-5563-4C38-805B-3AD939C7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8A01-234E-4BE2-9157-ACB18140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282C-7C89-4CB4-9351-316A4F04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1834-D26F-47EB-A781-2AFB4673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0D4C-3203-4580-A908-D1355429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C86A-E57B-45CB-9A3A-3FB3E411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7547-A3E0-439E-99C7-6F1A5B45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9B4F-7944-4A71-91CE-AF00F575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43F8-5010-4649-9085-72F8F33F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3381-6FB2-4AE9-8E30-666226A6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9050-2EB4-4EFE-BE18-F26F369D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B426-57B8-42C3-83F8-D6A37653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0B9A-D53F-46EA-B990-D827A2B4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7E7A-F8E9-494A-BED5-3E554F83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EB6D-6B22-44C2-B312-A2667355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E6F4-349B-45AA-9A68-58CD5DD0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21E1-2A6C-48A7-B079-03F971FC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E56-E917-4991-BBC9-3BB4E65D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03A2-65A7-4A9C-B797-E018FFA6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A0B3-C3F4-4005-9E50-9382683C76E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E6E6-C69A-495C-A55C-F89DAE28BA8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1" descr=""/>
          <p:cNvPicPr/>
          <p:nvPr/>
        </p:nvPicPr>
        <p:blipFill>
          <a:blip r:embed="rId1"/>
          <a:srcRect l="36855" t="12844" r="35250" b="43012"/>
          <a:stretch/>
        </p:blipFill>
        <p:spPr>
          <a:xfrm>
            <a:off x="4038480" y="533520"/>
            <a:ext cx="587520" cy="5857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Проект бюджета Новоминского сельского поселения Каневского района на 2019 г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57200" y="609480"/>
            <a:ext cx="8228880" cy="5499000"/>
            <a:chOff x="457200" y="609480"/>
            <a:chExt cx="8228880" cy="5499000"/>
          </a:xfrm>
        </p:grpSpPr>
        <p:cxnSp>
          <p:nvCxnSpPr>
            <p:cNvPr id="159" name="_s7182"/>
            <p:cNvCxnSpPr>
              <a:stCxn id="160" idx="0"/>
              <a:endCxn id="161" idx="2"/>
            </p:cNvCxnSpPr>
            <p:nvPr/>
          </p:nvCxnSpPr>
          <p:spPr>
            <a:xfrm flipV="1" rot="16200000">
              <a:off x="5461200" y="1918080"/>
              <a:ext cx="1100520" cy="2880720"/>
            </a:xfrm>
            <a:prstGeom prst="bentConnector3">
              <a:avLst>
                <a:gd name="adj1" fmla="val 126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2" name="_s7181"/>
            <p:cNvCxnSpPr>
              <a:stCxn id="163" idx="0"/>
              <a:endCxn id="161" idx="2"/>
            </p:cNvCxnSpPr>
            <p:nvPr/>
          </p:nvCxnSpPr>
          <p:spPr>
            <a:xfrm flipV="1">
              <a:off x="4571280" y="2808360"/>
              <a:ext cx="3240" cy="1100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4" name="_s7180"/>
            <p:cNvCxnSpPr>
              <a:stCxn id="165" idx="0"/>
              <a:endCxn id="161" idx="2"/>
            </p:cNvCxnSpPr>
            <p:nvPr/>
          </p:nvCxnSpPr>
          <p:spPr>
            <a:xfrm flipH="1" flipV="1" rot="5400000">
              <a:off x="2581200" y="1918440"/>
              <a:ext cx="1100520" cy="2880720"/>
            </a:xfrm>
            <a:prstGeom prst="bentConnector3">
              <a:avLst>
                <a:gd name="adj1" fmla="val 126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1" name="_s7176"/>
            <p:cNvSpPr/>
            <p:nvPr/>
          </p:nvSpPr>
          <p:spPr>
            <a:xfrm>
              <a:off x="3337200" y="6094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Основа формирова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проек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бюджета Новомин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сельского посел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на 2019 годы</a:t>
              </a:r>
              <a:r>
                <a:rPr b="0" lang="en-US" sz="21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7177"/>
            <p:cNvSpPr/>
            <p:nvPr/>
          </p:nvSpPr>
          <p:spPr>
            <a:xfrm>
              <a:off x="457200" y="39088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рогноз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социально-экономиче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развития Новоминског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сельского посел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7178"/>
            <p:cNvSpPr/>
            <p:nvPr/>
          </p:nvSpPr>
          <p:spPr>
            <a:xfrm>
              <a:off x="3337200" y="39088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Основные направле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Бюджетной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и налоговой политики</a:t>
              </a:r>
              <a:r>
                <a:rPr b="0" lang="en-US" sz="21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Новоминского сель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оселения на 2019 годы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_s7179"/>
            <p:cNvSpPr/>
            <p:nvPr/>
          </p:nvSpPr>
          <p:spPr>
            <a:xfrm>
              <a:off x="6217560" y="39088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Муниципальные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рограммы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Новоминского сельског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оселения Канев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район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Основные параметры проекта бюджета Новоминского сельского поселения на 2019 год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371600" y="1600200"/>
          <a:ext cx="6629400" cy="4692600"/>
        </p:xfrm>
        <a:graphic>
          <a:graphicData uri="http://schemas.openxmlformats.org/drawingml/2006/table">
            <a:tbl>
              <a:tblPr/>
              <a:tblGrid>
                <a:gridCol w="3314880"/>
                <a:gridCol w="3314520"/>
              </a:tblGrid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    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Доходы всего</a:t>
                      </a: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3936,5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- налоговые и неналоговые доход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39885,1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- безвозмездные поступле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051,4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в том числе дотация на выравнивание бюджетной обеспеченност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0,0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2. </a:t>
                      </a: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Расходы всего</a:t>
                      </a: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3936,5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3. </a:t>
                      </a:r>
                      <a:r>
                        <a:rPr b="1" lang="ru-R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Дефицит (-), профицит (+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0,0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Объем налоговых и неналоговых доходов бюджета Новоминского сельского поселения на 2018 год составил 39885,1 тыс. рублей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Налог на доходы физических лиц – 15600,0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Акцизы по подакцизным товарам (продукции), производимым на территории Российской Федерации  - 5015,1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ЕСХН –1190,0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Налоги на имущество – 18080,0 тыс.руб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Земельный налог -15250,0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25080"/>
            <a:ext cx="80773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Общий объем расходов на 2019 год – 11496,3 тыс. рублей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Общегосударственные вопросы- 8831,7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Национальная оборона – 608,1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Национальнаябезопасность и правоохранительная деятельность – 11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Национальная экономика – 8955,8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Жилищно-коммунальное хозяйство – 40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Образование – 83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Культура, кинематография – 22880,3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Социальная политика – 290,6 тыс.руб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Физическая культура и спорт – 2235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Обслуживание государственного и муниципального долга – 1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6T06:27:46Z</dcterms:created>
  <dc:creator>Пользователь</dc:creator>
  <dc:description/>
  <dc:language>en-US</dc:language>
  <cp:lastModifiedBy>ГЫУК</cp:lastModifiedBy>
  <dcterms:modified xsi:type="dcterms:W3CDTF">2019-10-18T06:28:3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