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dt" idx="16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 type="ftr" idx="17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 type="sldNum" idx="18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E81A6-6621-4EDB-B9CE-47093D59E43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12420-8B6C-4A8D-B4D9-DDB33FD016CC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72AA4-8ACF-451E-BA40-E44B7A593599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FFC92-8BB3-4A16-8CCA-3026170EF095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038C5-0991-452D-9F2E-DB06B0F823DF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011C4-66B4-489E-B09D-3B0C5C3D9510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24180-97D2-4131-BE2B-DBA93C90129E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66295-CA99-4D9F-8330-B5EBF7AE7031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50EA0-55A8-4E5F-9494-951C23EDF5C6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01428-BB90-486D-94E2-E0F9B0FD4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BD686-7E33-4644-B64C-951D37D6E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4F35F-94F4-493F-BCD3-062CE4FAE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C1841-1F14-4D23-AABA-87F436B65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E3734-2E76-4D53-94DB-B54043309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80209-F16C-4CF4-8DD6-E4AF59669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8AD9B-FDD9-4380-A7A2-4F8474921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023B4-420C-44BD-8DED-768019023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645C6-C72C-4F05-A9E4-0A9F00839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A3678-2E4D-4DFF-B03F-D17856323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9DB6D-14EA-4560-B18E-F74884709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7DA5D-E857-4E3B-A24C-500D81C65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82BE1-DD10-4B3A-A85D-6200BED62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E88FE-2E34-416D-A46B-50D6FF772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A7121-0631-4E80-BA15-07C1AD2A0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40E43-5026-402C-BB70-2D404C7E9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6FD72-673F-4AFF-B9D9-330A09567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CD1621-1143-40AE-A21A-3B286AA5D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610B9C-2A09-477C-88C6-040785091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E29409-92B0-42AD-8EDD-90E251FCE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19DA7F-6E33-4563-A915-955FFE9AB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073FBF-55AA-4A05-A837-9BECBB1DB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D0FF6-12D6-4109-8657-F359B6FA9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DD6E63-9CAE-4DDB-8187-CC1CAC058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984392-FB22-4485-BC5C-BF81AC6FF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022410-5972-4479-B7F4-4ED1BE1F7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E53924-8389-445C-A488-4B1EEEE24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5FAC80-4B58-4141-BB26-3407FC78E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8B38EA-8CD4-46FE-9F63-D10DACF21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128418-5B4A-445C-9DE9-DCD6B857B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C676E0-EE78-4BA3-AD5B-F6F879213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680225-7419-4C9F-BA21-28EE0180E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6D6EFA-5887-443A-B23A-3D0B39CA7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5C71D-F800-4C48-8FDA-302A1326A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0F9BED-0686-44A4-AED9-D8ECABA9E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B811C4-BDB9-44CC-8F2A-F5DFF3F4D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E0C1D1-53DA-460B-BE74-6E5F23826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99F54A-0937-4A4D-B86C-307DC9A51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271A2D-334E-4240-8F11-FC3B5DD0B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37E36F-5322-4DE3-8378-D1CCF74E0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9EAAFF-92BB-43ED-AFBD-264644ECD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6F8750-E15B-465A-8264-ACF4B87DB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7796C6-0D4D-4007-A1F1-BC4887C33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9D1FF7-7251-45BD-A7D9-BBC1848A9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6359F-612A-4564-8BDA-5CBDB08D9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B3EF9B-C3C8-4994-B679-66A470803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5B091A-1BF9-4C64-BC44-D585223AA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C44827-A952-40F9-BC45-82D2DA33B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9D3C64-8D9F-4BA5-A3F0-BB21ED23D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C1FC8C-49A7-41BB-9AEE-A48F8369F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B6CC9A-119B-435E-B040-C6E40E4AC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715B82-EB0D-40FD-92EC-1CB2B90BD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7BFEE9-D3BF-4A22-A611-402CDB811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A79D8F-68DE-44E8-B0B3-7328CD190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956AD8-D9CA-461B-BFA0-A6B5C2FF0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CD2A5-F59D-4728-8056-28398A0FE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706E67-673A-4D0C-A513-5DF2430DA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3882A-0809-4F08-9ADF-D7FD203E8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EFF91-E3C0-4912-863D-A5D4D69DF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5360B-1DC8-46C9-A1E3-E80AB28B4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484200" y="5938920"/>
            <a:ext cx="3692520" cy="933480"/>
          </a:xfrm>
          <a:custGeom>
            <a:avLst/>
            <a:gdLst>
              <a:gd name="textAreaLeft" fmla="*/ 0 w 3692520"/>
              <a:gd name="textAreaRight" fmla="*/ 3692880 w 36925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17640" y="5788080"/>
            <a:ext cx="3422520" cy="1087560"/>
            <a:chOff x="-17640" y="5788080"/>
            <a:chExt cx="3422520" cy="108756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7640" y="5788080"/>
              <a:ext cx="3422520" cy="108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6480" y="6422040"/>
              <a:ext cx="1701720" cy="35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7640" y="5780160"/>
            <a:ext cx="3422880" cy="110016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6240" y="6408720"/>
            <a:ext cx="1920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94F69-8211-4196-B756-FF6D25C73E59}" type="datetime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5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154DE-45BE-4F3D-B6C2-C8CDD78658DC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726240" y="6408720"/>
            <a:ext cx="1920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820A7-9235-47EA-AF68-E6CD903A900D}" type="datetime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5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4F1B4-4631-469A-A216-5748457D07AB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Полилиния 11"/>
          <p:cNvSpPr/>
          <p:nvPr/>
        </p:nvSpPr>
        <p:spPr>
          <a:xfrm>
            <a:off x="484200" y="5938920"/>
            <a:ext cx="3692520" cy="933480"/>
          </a:xfrm>
          <a:custGeom>
            <a:avLst/>
            <a:gdLst>
              <a:gd name="textAreaLeft" fmla="*/ 0 w 3692520"/>
              <a:gd name="textAreaRight" fmla="*/ 3692880 w 36925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0" name="Прямоугольный треугольник 13"/>
          <p:cNvGrpSpPr/>
          <p:nvPr/>
        </p:nvGrpSpPr>
        <p:grpSpPr>
          <a:xfrm>
            <a:off x="-17640" y="5788080"/>
            <a:ext cx="3422520" cy="1087560"/>
            <a:chOff x="-17640" y="5788080"/>
            <a:chExt cx="3422520" cy="1087560"/>
          </a:xfrm>
        </p:grpSpPr>
        <p:pic>
          <p:nvPicPr>
            <p:cNvPr id="91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7640" y="5788080"/>
              <a:ext cx="3422520" cy="108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276480" y="6422040"/>
              <a:ext cx="1701720" cy="35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93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7640" y="5780160"/>
            <a:ext cx="3422880" cy="110016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6726240" y="6408720"/>
            <a:ext cx="1920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62FC3-2282-46C7-AFDB-1C8BA12765E3}" type="datetime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5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12873-C7D8-4AC4-B7A2-23A1C3F2A4C8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726240" y="6408720"/>
            <a:ext cx="1920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9C3D4-A98F-4274-B453-C21CA6FF4782}" type="datetime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5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62465-B82B-4FBE-9BC4-CEF4FB087F23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Полилиния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Полилиния 15"/>
          <p:cNvSpPr/>
          <p:nvPr/>
        </p:nvSpPr>
        <p:spPr>
          <a:xfrm>
            <a:off x="484200" y="5938920"/>
            <a:ext cx="3692520" cy="933480"/>
          </a:xfrm>
          <a:custGeom>
            <a:avLst/>
            <a:gdLst>
              <a:gd name="textAreaLeft" fmla="*/ 0 w 3692520"/>
              <a:gd name="textAreaRight" fmla="*/ 3692880 w 36925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8" name="Прямоугольный треугольник 16"/>
          <p:cNvGrpSpPr/>
          <p:nvPr/>
        </p:nvGrpSpPr>
        <p:grpSpPr>
          <a:xfrm>
            <a:off x="-17640" y="5788080"/>
            <a:ext cx="3422520" cy="1087560"/>
            <a:chOff x="-17640" y="5788080"/>
            <a:chExt cx="3422520" cy="1087560"/>
          </a:xfrm>
        </p:grpSpPr>
        <p:pic>
          <p:nvPicPr>
            <p:cNvPr id="179" name="Прямоугольный треугольник 16" descr=""/>
            <p:cNvPicPr/>
            <p:nvPr/>
          </p:nvPicPr>
          <p:blipFill>
            <a:blip r:embed="rId3"/>
            <a:stretch/>
          </p:blipFill>
          <p:spPr>
            <a:xfrm>
              <a:off x="-17640" y="5788080"/>
              <a:ext cx="3422520" cy="108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"/>
            <p:cNvSpPr/>
            <p:nvPr/>
          </p:nvSpPr>
          <p:spPr>
            <a:xfrm>
              <a:off x="276480" y="6422040"/>
              <a:ext cx="1701720" cy="35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81" name="Прямая соединительная линия 18" descr=""/>
          <p:cNvPicPr/>
          <p:nvPr/>
        </p:nvPicPr>
        <p:blipFill>
          <a:blip r:embed="rId4"/>
          <a:stretch/>
        </p:blipFill>
        <p:spPr>
          <a:xfrm>
            <a:off x="-17640" y="5780160"/>
            <a:ext cx="3422880" cy="1100160"/>
          </a:xfrm>
          <a:prstGeom prst="rect">
            <a:avLst/>
          </a:prstGeom>
          <a:ln w="0">
            <a:noFill/>
          </a:ln>
        </p:spPr>
      </p:pic>
      <p:sp>
        <p:nvSpPr>
          <p:cNvPr id="182" name="Нашивка 19"/>
          <p:cNvSpPr/>
          <p:nvPr/>
        </p:nvSpPr>
        <p:spPr>
          <a:xfrm>
            <a:off x="8663040" y="4989600"/>
            <a:ext cx="183960" cy="228600"/>
          </a:xfrm>
          <a:custGeom>
            <a:avLst/>
            <a:gdLst>
              <a:gd name="textAreaLeft" fmla="*/ 0 w 183960"/>
              <a:gd name="textAreaRight" fmla="*/ 184320 w 1839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Нашивка 20"/>
          <p:cNvSpPr/>
          <p:nvPr/>
        </p:nvSpPr>
        <p:spPr>
          <a:xfrm>
            <a:off x="8477280" y="4989600"/>
            <a:ext cx="183960" cy="228600"/>
          </a:xfrm>
          <a:custGeom>
            <a:avLst/>
            <a:gdLst>
              <a:gd name="textAreaLeft" fmla="*/ 0 w 183960"/>
              <a:gd name="textAreaRight" fmla="*/ 184320 w 1839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dt" idx="13"/>
          </p:nvPr>
        </p:nvSpPr>
        <p:spPr>
          <a:xfrm>
            <a:off x="6726240" y="6408720"/>
            <a:ext cx="1920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0F91B-F41E-4E84-8EFD-40FC398861CE}" type="datetime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5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EEA44-A725-44DE-BE03-24CAB652C999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Rectangle 2049" descr=""/>
          <p:cNvPicPr/>
          <p:nvPr/>
        </p:nvPicPr>
        <p:blipFill>
          <a:blip r:embed="rId2"/>
          <a:stretch/>
        </p:blipFill>
        <p:spPr>
          <a:xfrm>
            <a:off x="299880" y="1746360"/>
            <a:ext cx="8804520" cy="1842840"/>
          </a:xfrm>
          <a:prstGeom prst="rect">
            <a:avLst/>
          </a:prstGeom>
          <a:ln w="0">
            <a:noFill/>
          </a:ln>
        </p:spPr>
      </p:pic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2336760" y="4266720"/>
            <a:ext cx="6654960" cy="1752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64646"/>
                </a:solidFill>
                <a:latin typeface="Times New Roman"/>
              </a:rPr>
              <a:t>Новоминское сельское поселение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Rectangle 18"/>
          <p:cNvSpPr/>
          <p:nvPr/>
        </p:nvSpPr>
        <p:spPr>
          <a:xfrm>
            <a:off x="8647200" y="6408720"/>
            <a:ext cx="365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90AB9-8AE7-4BA4-AF9A-00D3123A4EEF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Номер слайда 2"/>
          <p:cNvSpPr/>
          <p:nvPr/>
        </p:nvSpPr>
        <p:spPr>
          <a:xfrm>
            <a:off x="8647200" y="6408720"/>
            <a:ext cx="365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346FE-55EA-4DB1-8368-E304A6048B24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Номер слайда 2"/>
          <p:cNvSpPr/>
          <p:nvPr/>
        </p:nvSpPr>
        <p:spPr>
          <a:xfrm>
            <a:off x="8647200" y="6408720"/>
            <a:ext cx="365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747AE-8739-47E1-A636-4A57DFD67E8A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457200" y="5331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дготовлен на основе требований Бюджетного Кодекса Российской  Федерации, решения Совета Новоминского сельского поселения Каневского района «О бюджетном процессе в Новоминском сельском поселении Каневского района», иных законодательных,  нормативных правовых актов Российской Федерации, Краснодарского края и Совета Новоминского сельского поселения Каневского района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6" name="Номер слайда 4"/>
          <p:cNvSpPr/>
          <p:nvPr/>
        </p:nvSpPr>
        <p:spPr>
          <a:xfrm>
            <a:off x="8647200" y="6408720"/>
            <a:ext cx="365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D46BE-3165-469C-8E10-3453372B6AC1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457200" y="85680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39480" indent="-237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Lucida Sans Unicode"/>
              </a:rPr>
              <a:t>По данным Управления Федерального казначейства по 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237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Lucida Sans Unicode"/>
              </a:rPr>
              <a:t>Краснодарскому краю за 2017 год администрировало 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237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Lucida Sans Unicode"/>
              </a:rPr>
              <a:t>доходы местного бюджета на общую сумм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у 50781,58</a:t>
            </a:r>
            <a:r>
              <a:rPr b="1" lang="ru-RU" sz="1500" spc="-1" strike="noStrike">
                <a:solidFill>
                  <a:srgbClr val="000000"/>
                </a:solidFill>
                <a:latin typeface="Lucida Sans Unicode"/>
              </a:rPr>
              <a:t> тыс. рублей, а именно: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237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Lucida Sans Unicode"/>
              </a:rPr>
              <a:t>Налоговые и неналоговые доходы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 40152,87</a:t>
            </a:r>
            <a:r>
              <a:rPr b="1" lang="ru-RU" sz="1500" spc="-1" strike="noStrike">
                <a:solidFill>
                  <a:srgbClr val="000000"/>
                </a:solidFill>
                <a:latin typeface="Lucida Sans Unicode"/>
              </a:rPr>
              <a:t>тыс.рублей, в том числе: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237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Lucida Sans Unicode"/>
              </a:rPr>
              <a:t>-Налог на доходы физических лиц- на сумму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 12250,22</a:t>
            </a:r>
            <a:r>
              <a:rPr b="1" lang="ru-RU" sz="1500" spc="-1" strike="noStrike">
                <a:solidFill>
                  <a:srgbClr val="000000"/>
                </a:solidFill>
                <a:latin typeface="Lucida Sans Unicode"/>
              </a:rPr>
              <a:t> тыс.рублей;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237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Lucida Sans Unicode"/>
              </a:rPr>
              <a:t>-Единый сельскохозяйственный налог- на сумму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237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5094,92 </a:t>
            </a:r>
            <a:r>
              <a:rPr b="1" lang="ru-RU" sz="1500" spc="-1" strike="noStrike">
                <a:solidFill>
                  <a:srgbClr val="000000"/>
                </a:solidFill>
                <a:latin typeface="Lucida Sans Unicode"/>
              </a:rPr>
              <a:t>тыс.рублей;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237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Lucida Sans Unicode"/>
              </a:rPr>
              <a:t>-Налог на имущество физических лиц – на сумму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 2307,47 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237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Lucida Sans Unicode"/>
              </a:rPr>
              <a:t>тыс.рублей;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237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Lucida Sans Unicode"/>
              </a:rPr>
              <a:t>-Земельный налог- на сумму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 15727,46 </a:t>
            </a:r>
            <a:r>
              <a:rPr b="1" lang="ru-RU" sz="1500" spc="-1" strike="noStrike">
                <a:solidFill>
                  <a:srgbClr val="000000"/>
                </a:solidFill>
                <a:latin typeface="Lucida Sans Unicode"/>
              </a:rPr>
              <a:t>тыс.рублей;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237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Lucida Sans Unicode"/>
              </a:rPr>
              <a:t>-Денежные взыскания и штрафы- на сумму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 10,0 </a:t>
            </a:r>
            <a:r>
              <a:rPr b="1" lang="ru-RU" sz="1500" spc="-1" strike="noStrike">
                <a:solidFill>
                  <a:srgbClr val="000000"/>
                </a:solidFill>
                <a:latin typeface="Lucida Sans Unicode"/>
              </a:rPr>
              <a:t>тыс. 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237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Lucida Sans Unicode"/>
              </a:rPr>
              <a:t>рублей;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237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500" spc="-1" strike="noStrike">
                <a:solidFill>
                  <a:srgbClr val="000000"/>
                </a:solidFill>
                <a:latin typeface="Lucida Sans Unicode"/>
              </a:rPr>
              <a:t>- Доходы от уплаты акцизов – на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237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Lucida Sans Unicode"/>
              </a:rPr>
              <a:t>сумму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 4762,80 </a:t>
            </a:r>
            <a:r>
              <a:rPr b="1" lang="ru-RU" sz="1500" spc="-1" strike="noStrike">
                <a:solidFill>
                  <a:srgbClr val="000000"/>
                </a:solidFill>
                <a:latin typeface="Lucida Sans Unicode"/>
              </a:rPr>
              <a:t>тыс.рублей;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237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Lucida Sans Unicode"/>
              </a:rPr>
              <a:t>-Безвозмездные поступления –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 10628,71 </a:t>
            </a:r>
            <a:r>
              <a:rPr b="1" lang="ru-RU" sz="1500" spc="-1" strike="noStrike">
                <a:solidFill>
                  <a:srgbClr val="000000"/>
                </a:solidFill>
                <a:latin typeface="Lucida Sans Unicode"/>
              </a:rPr>
              <a:t>тыс. рублей, в том числе: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237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Lucida Sans Unicode"/>
              </a:rPr>
              <a:t>- Прочие субсидии бюджетам сельских поселений - на 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237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Lucida Sans Unicode"/>
              </a:rPr>
              <a:t>сумму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 9989,61 </a:t>
            </a:r>
            <a:r>
              <a:rPr b="1" lang="ru-RU" sz="1500" spc="-1" strike="noStrike">
                <a:solidFill>
                  <a:srgbClr val="000000"/>
                </a:solidFill>
                <a:latin typeface="Lucida Sans Unicode"/>
              </a:rPr>
              <a:t>тыс. рублей;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237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Lucida Sans Unicode"/>
              </a:rPr>
              <a:t>- Субвенции бюджетам поселений на осуществление первичного воинского учета на территориях, где 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237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Lucida Sans Unicode"/>
              </a:rPr>
              <a:t>осуществляют военные комиссариаты - на сумму 557,70 тыс. рублей;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237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Lucida Sans Unicode"/>
              </a:rPr>
              <a:t>- Субвенции бюджетам поселений на выполнение 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237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Lucida Sans Unicode"/>
              </a:rPr>
              <a:t>передаваемых полномочий - на сумму 7,6 тыс.рублей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237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Lucida Sans Unicode"/>
              </a:rPr>
              <a:t>-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1" lang="ru-RU" sz="1500" spc="-1" strike="noStrike">
                <a:solidFill>
                  <a:srgbClr val="000000"/>
                </a:solidFill>
                <a:latin typeface="Lucida Sans Unicode"/>
              </a:rPr>
              <a:t>ежбюджетные трансферты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, передаваемые бюджетам муниципальных образований на осуществление части полномочий порешению вопросов местного значения в соответствии с заключенными соглашениями</a:t>
            </a:r>
            <a:r>
              <a:rPr b="1" lang="ru-RU" sz="1500" spc="-1" strike="noStrike">
                <a:solidFill>
                  <a:srgbClr val="000000"/>
                </a:solidFill>
                <a:latin typeface="Lucida Sans Unicode"/>
              </a:rPr>
              <a:t> - на сумму 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237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73,8 </a:t>
            </a:r>
            <a:r>
              <a:rPr b="1" lang="ru-RU" sz="1500" spc="-1" strike="noStrike">
                <a:solidFill>
                  <a:srgbClr val="000000"/>
                </a:solidFill>
                <a:latin typeface="Lucida Sans Unicode"/>
              </a:rPr>
              <a:t>тыс.рублей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237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8" name="Номер слайда 4"/>
          <p:cNvSpPr/>
          <p:nvPr/>
        </p:nvSpPr>
        <p:spPr>
          <a:xfrm>
            <a:off x="8647200" y="6408720"/>
            <a:ext cx="365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D5DBF-034F-49D2-8566-4046CD918721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9" name="Rectangle 6" descr=""/>
          <p:cNvPicPr/>
          <p:nvPr/>
        </p:nvPicPr>
        <p:blipFill>
          <a:blip r:embed="rId2"/>
          <a:stretch/>
        </p:blipFill>
        <p:spPr>
          <a:xfrm>
            <a:off x="203040" y="171360"/>
            <a:ext cx="8477280" cy="1381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0" name=""/>
          <p:cNvGraphicFramePr/>
          <p:nvPr/>
        </p:nvGraphicFramePr>
        <p:xfrm>
          <a:off x="609480" y="514440"/>
          <a:ext cx="8229600" cy="5692680"/>
        </p:xfrm>
        <a:graphic>
          <a:graphicData uri="http://schemas.openxmlformats.org/drawingml/2006/table">
            <a:tbl>
              <a:tblPr/>
              <a:tblGrid>
                <a:gridCol w="6305760"/>
                <a:gridCol w="1633320"/>
                <a:gridCol w="290520"/>
              </a:tblGrid>
              <a:tr h="5205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ател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ссовое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полнени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 2017 год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3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ходы, всего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781,5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цизы по подакцизным товарам (продукции),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изводимым на территории Российской Федераци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62,8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логи на прибыль, доходы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250,2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диный сельскохозяйственный налог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94,9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лог на имущество физических лиц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07,4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емельный налог с организаци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786,8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емельный налог с физических лиц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40,6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рафы, санкции, возмещение ущерб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звозмездные поступлен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628,7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1" name="Номер слайда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B175C-CF6D-4ABD-99CA-E86B6AF07746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457200" y="1028880"/>
            <a:ext cx="8686800" cy="53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Фактическое исполнение и общие кассовые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расходы бюджетных ассигнований за 2017 год по  муниципальному образованию Новоминское сельское поселение Каневской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район составили 62592,29 тыс.рублей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Расходы были осуществлены по следующим разделам бюджетной классификации: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0100 «Общегосударственные вопросы»-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7560,00 тыс.рублей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0200 «Национальная оборона»- 557,7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тыс.рублей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0300 «Национальная безопасность и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правоохранительная деятельность»- 11,27 тыс.рублей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0400 «Национальная экономика»- 9043,65 тыс.рублей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0500 «ЖКХ»- 18471,60 тыс.рублей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0700 «Образование»- 120,78 тыс.рублей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0800 «Культура или кинематография»-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23939,47 тыс.рублей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1000 «Социальная политика»- 252,44 тыс.рублей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1100 «Физическая культура и спорт»- 2635,38 тыс.рублей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3" name="Номер слайда 4"/>
          <p:cNvSpPr/>
          <p:nvPr/>
        </p:nvSpPr>
        <p:spPr>
          <a:xfrm>
            <a:off x="8647200" y="6408720"/>
            <a:ext cx="365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327A1-8764-41D5-ACCA-BE03BE8C139C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4" name="Rectangle 6" descr=""/>
          <p:cNvPicPr/>
          <p:nvPr/>
        </p:nvPicPr>
        <p:blipFill>
          <a:blip r:embed="rId2"/>
          <a:stretch/>
        </p:blipFill>
        <p:spPr>
          <a:xfrm>
            <a:off x="220680" y="452520"/>
            <a:ext cx="8477280" cy="641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5" name=""/>
          <p:cNvGraphicFramePr/>
          <p:nvPr/>
        </p:nvGraphicFramePr>
        <p:xfrm>
          <a:off x="507960" y="457200"/>
          <a:ext cx="8229600" cy="4943520"/>
        </p:xfrm>
        <a:graphic>
          <a:graphicData uri="http://schemas.openxmlformats.org/drawingml/2006/table">
            <a:tbl>
              <a:tblPr/>
              <a:tblGrid>
                <a:gridCol w="4291200"/>
                <a:gridCol w="1476360"/>
                <a:gridCol w="1477800"/>
                <a:gridCol w="984240"/>
              </a:tblGrid>
              <a:tr h="910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юджет, утвержденный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ссовое исполнени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 испол-нен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0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 по поселению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760,9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2592,2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5,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3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щегосударственные вопросы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731,3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60,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7,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7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циональная оборона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7,7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7,7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,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циональная безопасность и правоохранительная деятельность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,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,2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3,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3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циональная экономик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376,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43,6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6,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илищно-коммунальное хозяйство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061,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471,6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7,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разовани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,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0,7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4,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льтура, кинематограф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966,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939,4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9,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7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циальная политик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6,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2,4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8,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ическая культура и спорт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42,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35,3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9,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46" name="Номер слайда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D1C2F-8621-487A-BEFA-2F18EA796FB7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457200" y="456840"/>
            <a:ext cx="8229600" cy="58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80800" indent="-19656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В 2017 году были приняты следующие целевые программы: </a:t>
            </a:r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280800" indent="-19656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1. Муниципальная программа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«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Развитие деятельности органов местного самоуправления Новоминского сельского поселения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»-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 1425,70 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тыс. рублей;</a:t>
            </a:r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280800" indent="-19656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. Муниципальная программа «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Поддержка и развитие Кубанского к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азачеств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а на территории Новоминского 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сельского поселения Каневского района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 на 2016-2018 годы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» -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 25,00 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тыс. рублей;</a:t>
            </a:r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280800" indent="-19656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. Муниципальная программа «Пожарная безопасность в 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Новоминском 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сельском поселении Каневского района»- 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12,00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 тыс. рублей;</a:t>
            </a:r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280800" indent="-19656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. Муниципальная программа «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Развитие сельского хозяйства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» -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 43,80 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тыс. рублей;</a:t>
            </a:r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280800" indent="-19656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. Муниципальная программа «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Развитие и содержание дорожного хозяйства Новоминского сельского поселения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» 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- 8954,30 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тыс. рублей;</a:t>
            </a:r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280800" indent="-19656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.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ГП Краснодарского края «Развитие сети автомобильных дорог Краснодарского края в 2017 году» - 1329,5 тыс.рублей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;</a:t>
            </a:r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280800" indent="-19656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. Муниципальная программа «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Улучшение качества обслуживания и содержания дорог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» -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 93,10 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тыс. рублей;</a:t>
            </a:r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280800" indent="-19656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. Муниципальная программа «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Развитие Новоминского сельского поселения Каневского района в сфере строительства, архитектуры, землеустройства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» -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211,30 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тыс. рублей;</a:t>
            </a:r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280800" indent="-19656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. Муниципальная программа «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Развитие газоснабжения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» -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 139,70 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тыс. рублей;</a:t>
            </a:r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280800" indent="-19656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10.Муниципальная программа «Увеличение уставного фонда МУП Новоминского сельского поселения Каневского района «Благоустройство» для его финансового оздоровления» - 4000,0 тыс.рублей;</a:t>
            </a:r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280800" indent="-19656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11.Муниципальная программа «Газификация ул.Советской в ст.Новоминской» - 375,90 тыс.рублей;</a:t>
            </a:r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280800" indent="-19656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12.Муниципальная программа «Осуществление мероприятий по улучшению водоснабжения» - 332,30 тыс.рублей;</a:t>
            </a:r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280800" indent="-19656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13.Муниципальная программа «Развитие благоустройства в Новоминском сельском поселении Каневского района» - 11011,60 тыс.рублей;</a:t>
            </a:r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280800" indent="-19656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14.Муниципальная программа «Содействие в обеспечении платежей за электроэнергию ресурсоснабжающей организации с целью бесперебойного снабжения водой жителей Новоминского сельского поселения» - 1701,50 тыс.рублей;</a:t>
            </a:r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280800" indent="-19656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15.Муниципальная программа «Развитие молодежной политики в Новоминском сельском поселении» - 128,00 тыс.рублей;</a:t>
            </a:r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280800" indent="-19656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16.Муниципальная программа «Развитие культуры и кинематографии в Новоминском сельском поселении Каневского района» - 20186,10 тыс.рублей;</a:t>
            </a:r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280800" indent="-19656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17.Муниципальная программа «Развитие библиотечной системы в Новоминском сельском поселении Каневского района»</a:t>
            </a:r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280800" indent="-19656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18.Муниципальная программа «Празднование Дня Победы в Новоминском сельском поселении в 2017 году» - 150,00 тыс.рублей;</a:t>
            </a:r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280800" indent="-19656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19.Муниципальная программа «Издание книги «Мыза ценой не постоим» - 130,00 тыс.рублей;</a:t>
            </a:r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280800" indent="-19656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20.Муниципальная программа «Фонд социальной поддержки населения» - 110,00 тыс.рублей;</a:t>
            </a:r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280800" indent="-19656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21.Муниципальная программа «Развитие физической культуры и спорта» - 2511,50 тыс.рублей;</a:t>
            </a:r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280800" indent="-19656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22.Муниципальная программа «Развитие велосипедного спорта в Новоминском сельском поселении»- 60,00 тыс.рублей;</a:t>
            </a:r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280800" indent="-19656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23.Муниципальная программа «Популяризация спортивных единоборств в Новоминском сельском поселении» - 11,00 тыс.рублей;</a:t>
            </a:r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280800" indent="-19656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24.Муниципальная программа «Популяризация футбола в Новоминском сельском поселении» - 60,00 тыс.рублей.</a:t>
            </a:r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8" name="Номер слайда 4"/>
          <p:cNvSpPr/>
          <p:nvPr/>
        </p:nvSpPr>
        <p:spPr>
          <a:xfrm>
            <a:off x="8647200" y="6408720"/>
            <a:ext cx="365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6B85F-00E9-4A68-A6C8-08F4DFF759EF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Номер слайда 2"/>
          <p:cNvSpPr/>
          <p:nvPr/>
        </p:nvSpPr>
        <p:spPr>
          <a:xfrm>
            <a:off x="8647200" y="6408720"/>
            <a:ext cx="365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2A64A-EBD5-4032-B141-497403DD48EE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 txBox="1"/>
          <p:nvPr/>
        </p:nvSpPr>
        <p:spPr>
          <a:xfrm>
            <a:off x="457200" y="456840"/>
            <a:ext cx="8229600" cy="582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1" name="Номер слайда 4"/>
          <p:cNvSpPr/>
          <p:nvPr/>
        </p:nvSpPr>
        <p:spPr>
          <a:xfrm>
            <a:off x="8647200" y="6408720"/>
            <a:ext cx="365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DCFC1-7D61-4E24-B894-132B0089370E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alogovik</dc:creator>
  <dc:description/>
  <dc:language>en-US</dc:language>
  <cp:lastModifiedBy>ГЫУК</cp:lastModifiedBy>
  <dcterms:modified xsi:type="dcterms:W3CDTF">2019-10-18T05:57:02Z</dcterms:modified>
  <cp:revision>3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49</vt:r8>
  </property>
  <property fmtid="{D5CDD505-2E9C-101B-9397-08002B2CF9AE}" pid="3" name="Version">
    <vt:r8>3</vt:r8>
  </property>
</Properties>
</file>