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D425-686E-467A-8389-D4C43B07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0DBB-0926-4837-BF74-EE440FC0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3752-5122-42EE-B33C-333D1CC4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4E71-C961-4F26-9AAF-83C91CF5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9C71-0834-48EB-A20F-D42D87D0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32A6-1124-45D5-8FF0-79B8D72C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1D7F-6F47-4F77-BA74-00E37BB7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62D9-5CF8-4159-87A5-A2293F3A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507C-A463-4382-B048-04BA3B06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F5B7-F02C-4418-9E42-C108EC7C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F890-F879-466B-A3F0-0DA5A3D7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52AF-FC8B-486D-8AAD-DAA17F52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41B4-C314-4626-9451-60E5932A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5CAA-A864-43AF-BBFD-7611A322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70CD-E316-4208-9A22-5E840BF6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D743-CA8D-49DE-A633-8F11EFFF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42B4-47A0-4435-9B71-3186C2F2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EF53-9724-4863-A6B8-5021AC1F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7851-4BA8-4956-8DFF-DAEDCB57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2A4C-034B-4E74-B609-9D195161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0A0A-B77A-4D71-9B72-03B6604D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5630-DD94-4F34-AB11-F3165E0D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4C96-9E9E-43F3-BE58-2C804E6C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15E8-FA75-4C64-8FD3-ECADBBE5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CA15-C425-455D-B195-0FD0C2BDE30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EC80-9A79-423F-B65E-8E30F48E32D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1" descr=""/>
          <p:cNvPicPr/>
          <p:nvPr/>
        </p:nvPicPr>
        <p:blipFill>
          <a:blip r:embed="rId1"/>
          <a:srcRect l="36855" t="12844" r="35250" b="43012"/>
          <a:stretch/>
        </p:blipFill>
        <p:spPr>
          <a:xfrm>
            <a:off x="4038480" y="533520"/>
            <a:ext cx="587520" cy="5857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Проект бюджета Новоминского сельского поселения Каневского района на 2019 г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57200" y="609480"/>
            <a:ext cx="8228880" cy="5499000"/>
            <a:chOff x="457200" y="609480"/>
            <a:chExt cx="8228880" cy="5499000"/>
          </a:xfrm>
        </p:grpSpPr>
        <p:cxnSp>
          <p:nvCxnSpPr>
            <p:cNvPr id="159" name="_s7182"/>
            <p:cNvCxnSpPr>
              <a:stCxn id="160" idx="0"/>
              <a:endCxn id="161" idx="2"/>
            </p:cNvCxnSpPr>
            <p:nvPr/>
          </p:nvCxnSpPr>
          <p:spPr>
            <a:xfrm flipV="1" rot="16200000">
              <a:off x="5461200" y="1918080"/>
              <a:ext cx="1100520" cy="2880720"/>
            </a:xfrm>
            <a:prstGeom prst="bentConnector3">
              <a:avLst>
                <a:gd name="adj1" fmla="val 126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2" name="_s7181"/>
            <p:cNvCxnSpPr>
              <a:stCxn id="163" idx="0"/>
              <a:endCxn id="161" idx="2"/>
            </p:cNvCxnSpPr>
            <p:nvPr/>
          </p:nvCxnSpPr>
          <p:spPr>
            <a:xfrm flipV="1">
              <a:off x="4571280" y="2808360"/>
              <a:ext cx="3240" cy="1100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4" name="_s7180"/>
            <p:cNvCxnSpPr>
              <a:stCxn id="165" idx="0"/>
              <a:endCxn id="161" idx="2"/>
            </p:cNvCxnSpPr>
            <p:nvPr/>
          </p:nvCxnSpPr>
          <p:spPr>
            <a:xfrm flipH="1" flipV="1" rot="5400000">
              <a:off x="2581200" y="1918440"/>
              <a:ext cx="1100520" cy="2880720"/>
            </a:xfrm>
            <a:prstGeom prst="bentConnector3">
              <a:avLst>
                <a:gd name="adj1" fmla="val 126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1" name="_s7176"/>
            <p:cNvSpPr/>
            <p:nvPr/>
          </p:nvSpPr>
          <p:spPr>
            <a:xfrm>
              <a:off x="3337200" y="609480"/>
              <a:ext cx="2468520" cy="2199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Основа формирова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проект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бюджета Новоминс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сельского поселе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90000"/>
                  </a:solidFill>
                  <a:latin typeface="Arial"/>
                </a:rPr>
                <a:t>на 2019 годы</a:t>
              </a:r>
              <a:r>
                <a:rPr b="0" lang="en-US" sz="21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7177"/>
            <p:cNvSpPr/>
            <p:nvPr/>
          </p:nvSpPr>
          <p:spPr>
            <a:xfrm>
              <a:off x="457200" y="3908880"/>
              <a:ext cx="2468520" cy="2199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Прогноз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социально-экономичес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развития Новоминского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сельского поселе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7178"/>
            <p:cNvSpPr/>
            <p:nvPr/>
          </p:nvSpPr>
          <p:spPr>
            <a:xfrm>
              <a:off x="3337200" y="3908880"/>
              <a:ext cx="2468520" cy="2199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Основные направлен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Бюджетной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и налоговой политики</a:t>
              </a:r>
              <a:r>
                <a:rPr b="0" lang="en-US" sz="21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Новоминского сельс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поселения на 2019 годы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_s7179"/>
            <p:cNvSpPr/>
            <p:nvPr/>
          </p:nvSpPr>
          <p:spPr>
            <a:xfrm>
              <a:off x="6217560" y="3908880"/>
              <a:ext cx="2468520" cy="21996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Муниципальные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Программы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Новоминского сельского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поселения Каневс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района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Основные параметры проекта бюджета Новоминского сельского поселения на 2019 год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371600" y="1600200"/>
          <a:ext cx="6629400" cy="4692600"/>
        </p:xfrm>
        <a:graphic>
          <a:graphicData uri="http://schemas.openxmlformats.org/drawingml/2006/table">
            <a:tbl>
              <a:tblPr/>
              <a:tblGrid>
                <a:gridCol w="3314880"/>
                <a:gridCol w="3314520"/>
              </a:tblGrid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                   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Доходы всего</a:t>
                      </a: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43936,5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- налоговые и неналоговые доход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39885,1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- безвозмездные поступле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4051,4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в том числе дотация на выравнивание бюджетной обеспеченност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0,0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2. </a:t>
                      </a: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Расходы всего</a:t>
                      </a:r>
                      <a:r>
                        <a:rPr b="0" lang="en-US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43936,5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3. </a:t>
                      </a:r>
                      <a:r>
                        <a:rPr b="1" lang="ru-RU" sz="14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Дефицит (-), профицит (+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ecff"/>
                          </a:solidFill>
                          <a:latin typeface="Arial"/>
                        </a:rPr>
                        <a:t>0,0 тыс.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Объем налоговых и неналоговых доходов бюджета Новоминского сельского поселения на 2018 год составил 39885,1 тыс. рублей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Налог на доходы физических лиц – 15600,0 тыс.ру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Акцизы по подакцизным товарам (продукции), производимым на территории Российской Федерации  - 5015,1 тыс.ру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ЕСХН –1190,0 тыс.ру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Налоги на имущество – 18080,0 тыс.руб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Земельный налог -15250,0 тыс.ру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25080"/>
            <a:ext cx="80773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Общий объем расходов на 2019 год – 11496,3 тыс. рублей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Общегосударственные вопросы- 8831,7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Национальная оборона – 608,1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Национальнаябезопасность и правоохранительная деятельность – 11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Национальная экономика – 8955,8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Жилищно-коммунальное хозяйство – 40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Образование – 83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Культура, кинематография – 22880,3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Социальная политика – 290,6 тыс.руб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Физическая культура и спорт – 2235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Обслуживание государственного и муниципального долга – 1,0 тыс.руб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6T06:27:46Z</dcterms:created>
  <dc:creator>Пользователь</dc:creator>
  <dc:description/>
  <dc:language>en-US</dc:language>
  <cp:lastModifiedBy>ГЫУК</cp:lastModifiedBy>
  <dcterms:modified xsi:type="dcterms:W3CDTF">2019-10-18T06:28:3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